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27A-F248-4023-B4C7-96D1E4C7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F44-B9FE-46F3-ABC2-253F6E87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AE9DE-D3BE-4943-8CB4-5E29750C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EF1A7-84EB-48F1-9F74-B7A7CD86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F4E74-EDD5-40CD-928F-DDC56ED8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55779-0E80-4BB0-BB49-572C76EA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FE635-023F-40A1-A3C1-CB8855A5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5B99C-77E6-48E8-B542-09D4F00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3209A-92CA-4197-A5F4-B0DC3975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319F7-B9AD-4F83-85B0-91913C5D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00034-7C95-4960-A683-7DA78DBA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7D4A7-247E-474C-B174-2413724D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4BF-CE63-4623-AAD6-14598E65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4ABA8-3EB1-404B-B1EE-B03BE3BF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391A7-6542-40D9-9F52-FC2A6700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28AB8-B146-4E28-B2FF-91C6B5C7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B86B9-19E2-47F5-9BF5-DBE400D2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8A0C2-E18F-498D-9026-37387E39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F7638-E692-4E3C-840D-64F6BB30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B6FA1-37A3-4220-AEFF-3DBD080B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3BB98-3D6D-4097-B8F3-31BBA344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88D13-C9A1-4E35-911B-6454088B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1F65E-6EE1-4F69-A483-68688A3A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515-5988-4F35-9ADC-E4F40814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D9E68-31F3-42F6-886F-B2C647C1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DA436-EDA2-4E39-A20A-004D90D0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6135F-046B-4CA9-A6C0-39D01536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A198E-CA58-4C36-950E-192F0947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2B285-44C4-441E-BDED-48A7A187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7AE96-F715-4F1B-A77F-5A532FA4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9E9DD-295B-414D-99F2-5CE3E7F4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DF3D8-1589-4CD9-8F68-55F235B0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FF973-B384-4D05-A9FD-B5D70CE1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7DB52-AFEC-4DB7-93BF-55F81CFF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C063-A4DE-4602-81D4-4F8D11B3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9F864-FC9A-4455-A3A7-E3FD5433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C51AE-7295-4F98-AE24-93ED8484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A63B7-FCE5-4360-938F-052768EF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B82E8-55AD-48A7-A1B4-D0515421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A5177-AB02-4D14-B3CB-34B31353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9512B-2D9C-42D1-A530-82D8A399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75778-FD59-4A02-A4CD-F4328A14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453E8-BCF3-464F-A563-0D889B2A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F26E1-8C78-447B-A75E-05163D64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16689-0745-4622-9945-ACFDCF05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574C-7FD7-416D-9051-F5956372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26C36-4C6F-4EB8-B2BF-3D893C04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CD6B6-02C7-4DF7-97D4-3F9D9721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05EAD-F34D-4E7A-A13D-80396B2A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857AF-88A9-414A-B802-03AB1D30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640FF-2B12-4933-A096-4E1A5C2C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0F274-BC66-420A-BBC8-5A56171A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C9667-1194-4C86-B8CA-EEB531AF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EC564-3011-4053-BAF8-DA140591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6A422-A0A8-4790-B08F-83364694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0CA80-0958-4E50-A979-0EA8C01A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CE84-C3AD-41E4-8D26-68DADC42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8BF53-EA21-4DD2-99A1-55DFF2E7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D0BF5-30B2-4CF1-A578-7CE5A760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3DB97-8563-4283-AD86-8A5502E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D2838-9EC6-4C54-B104-3E158667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05BEC-A483-4E29-877F-7A309A4A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BE199-9651-4AF6-9995-1010FFC1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85A19-7A99-4C65-87C6-D9392EE0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11A64-E17B-46D2-8A89-CA0839A2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27347-ED42-411E-85CE-395514E7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589CA-DE4F-4C00-82F4-08847F23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4777-9C5B-4F68-9731-0EEC0D50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415E2-1EA7-4FB0-ABE5-8390C79F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6FF5D-3E7C-42C5-8718-DED2F15E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BE400-137A-4DD6-820F-64CF11CB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EE694-CBAB-4F79-9E62-93B1B50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DC9D1-50D3-4E89-96F6-7DC50AA5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92858-A184-4E80-A372-13795FD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533A76-BED6-4026-8096-8FE13681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DD2D5-6E7D-4B41-9D46-7753B0B9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E2DEA-9C82-4C11-8A3B-642DA5F1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3A7D36-CF72-4F40-9BF5-BDF18171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4DBB-B87E-4173-8D1C-3F717A56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B191A2-2BD0-44EF-AD0E-A405A0DD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95B71-EA72-4E4D-AE06-D1796568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F5F7D-7DAD-446D-A916-42DE9116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128515-3955-4661-89CC-AD3BAA9B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5B141-8D4F-4B3E-A428-337C2F79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9399B-6BA3-4E57-AE4E-A46D63C5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DA40F-2547-4446-90D0-E48E9A33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98EE7-020C-4CC7-80F0-426417B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FC49B-A1D6-4E9A-9A8F-82967344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13A70-5ACB-4D1C-A95E-2935D454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604A-66CB-41AC-BD69-0EF1012D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32AE0-C93E-462C-9AA0-DFE212B6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EEE54-D14D-49D5-94D5-38E348DE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44A110-1B87-4064-917E-C6641AF5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2850C7-AA82-4B44-AA31-2D788068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76AFBD-0ED0-4C62-AF64-8FC64615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4CD65-FEEA-4B9B-A06A-0ABD885D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6ADE63-EC9E-4079-8761-F8F1BBF9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5E0E4-E0F4-4BEC-8838-A398810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911B0-7F3F-4EE4-ACD8-BFF60000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CBA5E-791D-45C1-9338-A686B119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64A6-C358-4B29-95DB-EF79B82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B8552-290A-4259-9D64-39F22101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7635A-BD5E-4394-8A38-1A3D3479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34C2BD-B853-4AFF-81AA-EB46B55D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A90EF-8349-4CB9-854E-00EA69E7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9AF2CF-2D52-4CBC-92FD-FB00C871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5C174E-E9B3-437E-A252-620AD145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F7DEF-C3BC-409A-9D69-8253C918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19C5A-6643-4A38-9754-1F0243FF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23B7EB-6A21-49DD-8A22-062DD81D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A468B-DC29-44E5-9311-338E530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C42-A2C6-41F8-AA5B-F71CD67D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B7B1-C69B-4C07-A2DE-8E8C6FA6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65133-C673-4270-B545-84F9273F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737410-2742-475D-9802-C31C8774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E90D0-3199-4EF1-9295-A2D109F7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E7365-4734-4B22-A912-B62AFEB0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D77A1-C587-4DFE-9BAE-4EC8DD48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33CA4-7EA8-4E37-9C09-0FDB6421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E38BE-511A-40DE-93DB-371713A4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164FA-6B5D-4CE7-B05B-2042FD12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6C29A-F22C-4245-9808-9DE1772B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45D409-18E9-4379-8E60-07B36208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F0B8-8739-4730-8F9F-FF1434F1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BABDE0-7A0A-45AC-8DEE-A5E778A5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CA6DD9-AE04-48C4-93DF-4A7B8D75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1C3B4-53A1-4493-90AC-8B63B906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9C4641-2984-4445-BED4-7482D939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69217-85F4-4582-B791-49E3354A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814F27-BBA1-4063-A5BE-C865A2B7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7E6BC-DE80-4738-9F1B-9F9BA06A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315A25-F37B-454B-9655-3F788832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51C0A-C1E3-4741-890C-FCAEBCC5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B71390-D3EE-4CB2-8378-04A6632A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1446-1DB8-4D6E-940A-E6A127C9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99A6C-0752-44A3-A9E1-84886B44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1E597F-05C8-4CCA-918D-753EAB21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83E02-7A33-41DC-8E5B-970E6481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0C397-E900-4D45-ADD7-18ECA5D3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9B1C4-B6E3-4088-8246-C258C8B8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3A820-72F4-4BCE-B40F-BB11E701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D4C8BA-D2F9-41C0-A3D6-B7221601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C4BC4B-2ECA-4897-A682-5945D801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67772-B0F8-433B-9C62-5F474A06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BD11B-2750-4B18-9D55-620A4C89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6FCF-1E0B-4D0A-9578-B3B76F90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C290CD-E3C2-40C8-85C4-92F9ABE8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650E6-F5B0-4FE0-B339-2DB9629A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34F66C-A7BA-4CC7-ADD8-E06FFB02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9E3BA-3185-42CB-A251-86BE2272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23C26E-E7CC-46F2-B276-EA810E11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F8379B-7B7E-4C8D-85C2-B11C4034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2B9E6-9FF9-4ED3-A092-5C3EFB7D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425710-9EAA-4C96-8F4B-7676D95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9B9FE-5BBB-4C95-AFFC-2B797ABB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7BF0C5-5318-43B7-AD1A-23E5EDEA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DCBB-0381-4997-90D8-B34C7421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47BA57-0472-4CF8-A5B9-2CDFAD89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640C54-A8BD-44CA-8359-439A6C4A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2047E9-48E3-4865-A727-7C1A95F4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36E4EF-C164-44A0-A21F-F030513D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D8181A-00E0-49BE-A3E0-1AE4CBA8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8C6C2B-FE3E-4311-AE4B-A4B11730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71A41-9319-402D-9042-0EE502AC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5F4976-7166-4E76-A7C4-90031664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7AC230-5ACE-4FFD-BD84-1EDD3E01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81EE01-4556-4D5B-B6F1-F343B973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921E-F844-4C29-8FD1-E9B99F71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3BCA6D-8AC3-48A3-9872-F12E2644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85E359-E72E-4743-91B1-45AB4728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FD58A7-C70E-4967-A7BF-83EA5859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AB9246-71A2-4284-84BA-FEB7F516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E545B9-D84A-4274-BCAD-A3F3D48E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6CBACC-0419-4633-99F7-1781DA3E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3080A0-3D2A-4259-80A7-591BFD54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8CCFBF-10DD-406A-8B48-8EA18852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70E0FB-9C13-49D0-A3DD-B639267A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016AFF-33A2-437D-BA0B-DE24EF7C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25863-63F1-4774-878B-F63263AD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F76E29-05D8-428F-9B3A-288F39BE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744AFF-CA09-4D8D-B331-B4E90786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40BD6B-F5AC-4FF9-8790-72795BE1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789191-A66A-40E7-BB2B-D6576463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17B7DF-9458-4476-A3C9-444EE7A3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DB680B-EDE1-4CC1-B0FA-66F8A768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C78043-997C-496D-BEC5-46A0F441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12AC93-D3A6-4B7A-A7BB-1747E006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29DFE2-A888-4C75-B25E-B768B9E1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4AA0AB-B640-4721-81D5-AFD66B3D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0E57-35EB-42BC-BF08-0E312232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8BC357-9C3E-407C-8D8F-3ECBA83F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97FD81-6963-470F-9054-9FD415E6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E6B8F6-682C-489A-88F5-F16FE53E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3A80D4-904E-442C-BDC5-F093A868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CCC684-2D0E-4F65-8AEF-2FF11976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A9388C-3C36-4A4C-BACF-06D5D8FF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ACCEAA-19EF-460B-A2EB-A82769AE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60808E-9C48-42E9-8EA1-B0818EC2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FCB652-9439-47EA-8DDB-8EC64618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63EBDB-34AB-4E8E-A890-0BB84798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7F48B-9CE7-41C6-9CDB-0EB8F175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49C168-FD2E-444E-8132-DFA8E954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B9317B-930A-451C-9824-75A223A7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67DBB9-138E-4531-AF84-682339D4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A08A62-758E-428E-A778-FF72716E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C4A032-9E9A-4C36-9788-FF6B86B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47C8CF-5AF3-410C-A10D-5C5A78A3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A516E5-E525-492D-9266-2FD2DCF7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EAF4AB-A5FA-4BD4-9D40-342EC9E2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C5E34B-7F6D-4020-8438-D53E643A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4817F7-911C-48AB-AB65-F3A69215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75D28-7BED-4C2E-A326-C13C7403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002541-6769-457F-A4FC-CB24C4A5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4E9488-50BF-4714-BD6E-A077BCDB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8B3E85-0546-441D-92AB-BA361B92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D610DB-F549-4E22-9F2A-82968B4D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7D4AE6-EB02-4CB2-A652-2DFC96D2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2BCA5D-479A-447F-B1E6-0F586309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A8FD66-04C2-4350-9DB9-180BFF98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E8AE53-3B2C-448B-A9E5-EB2B0C2A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A05D2B-26EA-4604-91FE-FD06F8FA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A443EF-8201-42FC-A05D-15EEC79D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CDD-39A0-480E-83F3-75533518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62BA-DC36-416B-AB30-3F91FB2C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657698-3210-42A3-BED2-0BA7C321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0DF987-DF8A-4C80-B207-B57A5466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734A41-D4C0-41BD-A3FE-EB6CAA28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E50BFD-4CD8-4F3B-9C53-A1E3B66F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F93D91-8F7C-4E9B-AE0B-78AA5F40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71A087-4B22-4137-A9F3-4F5B0B6D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4534D1-A05B-46A0-90FF-47657080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BAD3C0-7F73-41DB-8BCD-20A3214A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9EEF31-3074-46A8-BF2B-1676140C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F8496A-86DE-47B6-A879-89ACA43A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E304-6060-4431-BA07-B1F57115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6C2FA3-62B1-4469-A892-5F61D966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CBA197-1AE3-4610-AC9A-43943C1D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F9B2B9-EE15-45CB-AC70-40C9F22E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3635B7-B5C4-4C06-987B-91EA9779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32EC56-D596-459F-BE3F-9715185A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CD7329-DC52-47E6-BD34-9FA05C07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B34555-CB96-447E-A056-C133F870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90978E-C2CC-4C5B-B3FF-8E29986A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BE6417-54D9-4EB0-BE72-632CDC3E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BD3D5D-BC22-4264-B02C-490BDE1D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FF3E8-8C6C-47CA-A319-455B0544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A6D4B5-ED05-4D16-9C42-8B59E6F6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1FAC27-3B7C-4D0E-BB12-184AA7F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E117CB-3EA0-40A8-A03A-326C0A56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1BF414-5231-43B5-928A-EFA89932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27F57B-25FE-4BCC-A5C6-74349133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78628C-3AE8-4699-842E-B01182AC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FE253A-8F1A-4730-AC5E-ABFA9F2A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7E47BE-F806-4C02-9BA4-DC0759E1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3B675F-8041-4DBB-9763-45159431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702DF4-4D06-402B-9E31-B42449BC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5CC84-189F-499E-9DFD-4F28BAAD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3F9401-3F8D-439E-B609-624929BE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F6CD30-C451-46A4-AE80-7DE6DED9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FC4B2F-FB64-48E4-9E19-7C1A613B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1D4914-EAF6-42BF-91CA-783EC82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66E369-A79E-4D2D-A677-7483C8C5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3C6963-857C-470D-A2E4-AA27AACF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40549F-8A9A-4977-88B7-55DA857F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59C03D-A212-4344-A0A9-9A65BDE0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4C1572-E509-45AE-9BAF-0AD8B12E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8ADBAB-2DE4-4867-919A-729E8744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3B860-E055-4220-8619-1B3B162F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B0B194-2799-4A25-AB43-08AD8DAB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EFD193-EE1D-463D-988A-471CE541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AC566D-EBBA-42E7-954F-5A1BCB3D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642B9C-C9F5-47E1-BDB7-2778AF6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4FACBC-CF63-4F78-9D4F-3033E561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32AA8A-C130-4CFF-AB27-643166F9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ABE9C8-6179-4130-AA2F-07BE4243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9C2A24-E320-43EC-8E45-8217CEA9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853676-8D12-4649-AEC6-3C3AA360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41E158-0F39-404A-8B46-CC3AF048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8319-AB5E-4429-9A94-E7B2D0C3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80BE26-AC97-4657-9B77-87F780DF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6630BE-D7E1-45A8-B32B-C6AFDBCC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A3CA94-0EA1-4F79-BB35-77949712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B6923E-9B8A-475D-8809-72C21521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740748-B638-4798-8638-1DC1CC92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04AA12-E151-4732-B517-92177EF8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E20A85-60D6-4FB5-9055-A9FD884E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44381A-4E79-4C70-8430-B017BE3C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1C162E-2832-4030-943C-0917E92E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F8964B-8766-40AA-BD53-1F95E322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1E0CE-45A8-4DED-928C-81350A8F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F7770D-6C4B-401D-8960-36AFAE0F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47F2FF-379E-47BA-A58B-41DFA991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15FDFB-60E4-4AD7-A215-111B3631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EE9AB4-805D-418A-B85F-687B0ACE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9CC006-8FAD-4511-A091-956F6BB4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A38921-A430-4C40-A02D-C3232B2E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22DD32-65B5-4D48-9CB9-7C1E1B05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C830A0-1BC5-4FD5-933A-D0F025D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9839F7-9C98-477B-BF36-DFD736D4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29199D-4BBE-4E71-BD45-14C5BF0E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B783B-1A5C-4931-BFD4-6AAC1988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19A1E7-EC6E-4A6E-971B-134356B8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AA5962-AE00-4098-B9A0-5BDB5AF6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2525EC-ACDC-43D0-BA2D-494ED67D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BB24F-AE62-4190-917E-0419C3CA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35322-9DCE-4FDA-998F-C7C47A4F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A43-E536-46DB-9D40-C3E0BE7F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4A35C-4EAF-421F-9774-B6F08BED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3936-EB14-4189-8F9F-A63ED56C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A50D0-FC65-4C0C-A2DA-1F599D1B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0049A-E450-4F3F-A6AC-42746B4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DF64-61CC-45A0-8F80-FAF231E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7966C-852F-4414-880D-023399EB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2C635-13E3-4BDF-A9A8-BF9CA751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5EEB-28BC-410B-B33B-BB34DEB3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53EBF-4A7A-4570-B148-4C605F6C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A2E44-EFDC-4FBB-99D1-FEE1B436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EF7-D987-44AC-8B9D-BCB88E3A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0C811-DCF8-4153-A354-218D74A3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4054C-A6ED-412E-8369-9A95E350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508CE-463E-4154-8ECF-F032911A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9F077-AF56-4A06-A49C-7F6F2E51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737B7-E827-43A0-B18E-F353313D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98BE9-2AD8-4421-81BB-66864AD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A2F24-3641-4AC1-BA13-48A1B729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D584D-B8C2-4D83-B299-914A100C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32B7F-BD65-4104-BDAF-62DD0A01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B5464-4DF1-477C-8644-3AF4540A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B9B-5D25-457B-8279-1F9FE233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D05B2-9902-4915-BD38-1E48BF9B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B4FBA-9DCA-44A1-83B8-2107345A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E8A7F-BBD1-4056-B4F0-CA24629D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09CA9-C72F-432C-A04C-02F49D9F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70295-48F9-4AA4-B5B5-9AD20D30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28450-B720-4DAD-AECE-369B1DC9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29FDE-31D4-4C2C-B087-84DB8906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E3AAE-F09F-44C0-9AC4-BE199F99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0A538-FDE1-440F-8AA7-E11B1299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B76EE-F418-4880-8BEF-B411BF78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C82-1F16-40CB-B22F-460E801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422C0-761F-4AE8-9306-9B2E6701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8D916-127B-4C10-9175-83328414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D0FE8-A512-48EA-A870-8A7CE16E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FD7FE-054A-4302-B3A8-089FCB31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589CC-76C7-4F16-AB9C-44CB9456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16443-3EA1-48CD-B03C-AA84AD90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79023-58A3-45B4-9548-41434B03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2DFF9-B5F2-4BA0-A803-3A00D736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64B77-01B4-4E2D-B74E-2C76431E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16FB6-BF75-4595-B0DF-2E604F78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009-B532-4256-8B5E-9646EDE8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6F8F2-8C2A-4EDA-93B2-A2D6CAD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F988-E69D-47EF-AC54-4E79FCCB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D6B62-9BD2-45DE-A03E-834054AC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F79F7-4D60-4B62-BFA9-6B3F3B93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A18D2-C26C-49EB-870A-D9363D6A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3661C-9C16-4FD4-BDFE-7F9488F2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6B426-B21A-4F52-8B00-5BDBF224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B8A13-F724-42F8-B507-96CF3D85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00977-7BD7-48C6-884F-F55868C9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371EF-0144-4983-BF45-C8DA9420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CAF-8A4D-4280-9139-EB36ECAC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388B3-94A9-4EA3-A87E-FC7186FA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A14F3-ADD1-4B1B-B1CE-0DB7EF2E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0E198-70B8-4CDE-8827-DFD27866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EF38F-552C-4E0E-9368-295D284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0DB6A-1CE6-4109-BB5C-75658285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DBD00-E082-43D7-A4BF-6B296EA7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69454-82B9-44CD-9F18-E2A145C5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96F90-93C3-4F0D-8AE4-21427497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62F16-2876-40E6-AF1E-3C1A1DF4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D1EEF-F13B-4742-B69E-90B1C9F9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2477-33C3-4C29-AC5B-C698334FEF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5B0C-8301-4299-84FD-BB0291ABC2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B40D-D3CC-476B-B4B5-7C43FBECF7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1C13-552D-4F42-9CA5-22F11A4F38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258A-6BDD-4972-9236-4DC565056A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AAD4-8050-4899-9A74-0671065BE1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6BF3-6170-4748-A3A1-A5C53683E4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A032-8DF9-4A51-946D-5386C9962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C264-F7C5-48A9-8871-6E0054D27A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72F2-7038-479B-A0D6-AE3D0F0423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0E70-43A3-48A8-AD80-FC91C211D5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2910-D278-4433-B34C-2C937D18B0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D5C1-1FE6-4BAB-86FC-56A73D6B59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619C-D6C9-4ED8-82FC-080354E150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69DE-69AA-4ED8-8698-A3061DEAF3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F4E5-321D-4BE3-9D2F-FB9583A025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FD05-8B6F-4965-AEFA-C58DBF2E9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6B68-B8A9-4838-9483-1019565BB5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AB98-0651-4F7C-8246-9E510BD039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06D3-290D-4189-B7FC-8EA327D233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3D4F-CB40-4D5E-A230-35FCD05919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D359-8B7B-40E3-9E0B-A30C897103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0907-C07B-4192-94F9-E96C333A60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93B6-1AE1-43F7-A2BD-76558B8111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7496-CE49-4B5E-BA62-5ECC09563C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680D-4E7E-4A07-99D2-7F26691536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147B-9016-448D-9A0C-0817945A34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F60E-BF4E-450F-8B43-73EBC30413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2486-F53B-4A3C-A232-E7CBAF5F23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0A0C-2BF3-4FE0-B247-4DD41F87F3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5050-5295-48C0-B24C-BF5FD47672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18D9-1A69-4533-869B-7F0AA50D4C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F64E-F468-4EFC-B058-3C0263A12C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4A43-1447-4B67-A425-8EACE33C10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CFDB-818C-4315-BC8E-0FC85F36D1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B80C-0950-47A3-81DF-4BC650B97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1E7E-DFCC-4AEA-9B5F-2417CD3919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37F0-CD11-4CC3-B158-13D98BA7C8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3B32-D976-4FD8-88DE-F99611EC84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AE58-4CDB-4E16-A7CA-7EFEDCC117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E06D-A5B9-4BAF-B6E5-2B1BF32FD2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ACA3-ACF3-46F7-A10C-6A7E186D93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50D2-85A6-43D5-97F5-E986DAF5CD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96C3-B085-4693-9E36-FA49358C3C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3FE9-482E-4DF6-80E3-4680320E4B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FC3E-2D53-45C1-9B0F-799CF2AD60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71F0-CE93-4DDE-BA51-9B43686F64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D0E7-49DB-4E76-8E11-66745DB714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A848-EC6C-41B8-A2D5-7FCF3DB811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D3FF-879E-4C37-B6CB-74C0F4EBF2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30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3.png"/><Relationship Id="rId4" Type="http://schemas.openxmlformats.org/officeDocument/2006/relationships/image" Target="../media/image3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3.png"/><Relationship Id="rId3" Type="http://schemas.openxmlformats.org/officeDocument/2006/relationships/image" Target="../media/image37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78" descr=""/>
          <p:cNvPicPr/>
          <p:nvPr/>
        </p:nvPicPr>
        <p:blipFill>
          <a:blip r:embed="rId1"/>
          <a:stretch/>
        </p:blipFill>
        <p:spPr>
          <a:xfrm>
            <a:off x="681120" y="2981160"/>
            <a:ext cx="778176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69633" descr=""/>
          <p:cNvPicPr/>
          <p:nvPr/>
        </p:nvPicPr>
        <p:blipFill>
          <a:blip r:embed="rId1"/>
          <a:stretch/>
        </p:blipFill>
        <p:spPr>
          <a:xfrm>
            <a:off x="204840" y="162000"/>
            <a:ext cx="8734320" cy="653400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1" descr=""/>
          <p:cNvPicPr/>
          <p:nvPr/>
        </p:nvPicPr>
        <p:blipFill>
          <a:blip r:embed="rId2"/>
          <a:stretch/>
        </p:blipFill>
        <p:spPr>
          <a:xfrm>
            <a:off x="8028000" y="62064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" descr=""/>
          <p:cNvPicPr/>
          <p:nvPr/>
        </p:nvPicPr>
        <p:blipFill>
          <a:blip r:embed="rId3"/>
          <a:stretch/>
        </p:blipFill>
        <p:spPr>
          <a:xfrm>
            <a:off x="7524720" y="5603760"/>
            <a:ext cx="863640" cy="47304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1" descr=""/>
          <p:cNvPicPr/>
          <p:nvPr/>
        </p:nvPicPr>
        <p:blipFill>
          <a:blip r:embed="rId4"/>
          <a:stretch/>
        </p:blipFill>
        <p:spPr>
          <a:xfrm>
            <a:off x="3924360" y="6165720"/>
            <a:ext cx="1224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68609" descr=""/>
          <p:cNvPicPr/>
          <p:nvPr/>
        </p:nvPicPr>
        <p:blipFill>
          <a:blip r:embed="rId1"/>
          <a:stretch/>
        </p:blipFill>
        <p:spPr>
          <a:xfrm>
            <a:off x="219240" y="836640"/>
            <a:ext cx="8705520" cy="4076640"/>
          </a:xfrm>
          <a:prstGeom prst="rect">
            <a:avLst/>
          </a:prstGeom>
          <a:ln w="0">
            <a:noFill/>
          </a:ln>
        </p:spPr>
      </p:pic>
      <p:pic>
        <p:nvPicPr>
          <p:cNvPr id="1461" name="图片 68610" descr=""/>
          <p:cNvPicPr/>
          <p:nvPr/>
        </p:nvPicPr>
        <p:blipFill>
          <a:blip r:embed="rId2"/>
          <a:stretch/>
        </p:blipFill>
        <p:spPr>
          <a:xfrm>
            <a:off x="6300720" y="3716280"/>
            <a:ext cx="1838520" cy="206712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1" descr=""/>
          <p:cNvPicPr/>
          <p:nvPr/>
        </p:nvPicPr>
        <p:blipFill>
          <a:blip r:embed="rId3"/>
          <a:stretch/>
        </p:blipFill>
        <p:spPr>
          <a:xfrm>
            <a:off x="7956720" y="2752560"/>
            <a:ext cx="50472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67585" descr=""/>
          <p:cNvPicPr/>
          <p:nvPr/>
        </p:nvPicPr>
        <p:blipFill>
          <a:blip r:embed="rId1"/>
          <a:stretch/>
        </p:blipFill>
        <p:spPr>
          <a:xfrm>
            <a:off x="247680" y="692280"/>
            <a:ext cx="8648640" cy="3971880"/>
          </a:xfrm>
          <a:prstGeom prst="rect">
            <a:avLst/>
          </a:prstGeom>
          <a:ln w="0">
            <a:noFill/>
          </a:ln>
        </p:spPr>
      </p:pic>
      <p:pic>
        <p:nvPicPr>
          <p:cNvPr id="1464" name="图片 67586" descr=""/>
          <p:cNvPicPr/>
          <p:nvPr/>
        </p:nvPicPr>
        <p:blipFill>
          <a:blip r:embed="rId2"/>
          <a:stretch/>
        </p:blipFill>
        <p:spPr>
          <a:xfrm>
            <a:off x="5003640" y="4221000"/>
            <a:ext cx="2695680" cy="261936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" descr=""/>
          <p:cNvPicPr/>
          <p:nvPr/>
        </p:nvPicPr>
        <p:blipFill>
          <a:blip r:embed="rId3"/>
          <a:stretch/>
        </p:blipFill>
        <p:spPr>
          <a:xfrm>
            <a:off x="8028000" y="242100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1" descr=""/>
          <p:cNvPicPr/>
          <p:nvPr/>
        </p:nvPicPr>
        <p:blipFill>
          <a:blip r:embed="rId4"/>
          <a:stretch/>
        </p:blipFill>
        <p:spPr>
          <a:xfrm>
            <a:off x="2627280" y="4105440"/>
            <a:ext cx="720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66561" descr=""/>
          <p:cNvPicPr/>
          <p:nvPr/>
        </p:nvPicPr>
        <p:blipFill>
          <a:blip r:embed="rId1"/>
          <a:stretch/>
        </p:blipFill>
        <p:spPr>
          <a:xfrm>
            <a:off x="237960" y="765000"/>
            <a:ext cx="8668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65537" descr=""/>
          <p:cNvPicPr/>
          <p:nvPr/>
        </p:nvPicPr>
        <p:blipFill>
          <a:blip r:embed="rId1"/>
          <a:stretch/>
        </p:blipFill>
        <p:spPr>
          <a:xfrm>
            <a:off x="490680" y="884160"/>
            <a:ext cx="8162640" cy="53532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1" descr=""/>
          <p:cNvPicPr/>
          <p:nvPr/>
        </p:nvPicPr>
        <p:blipFill>
          <a:blip r:embed="rId2"/>
          <a:stretch/>
        </p:blipFill>
        <p:spPr>
          <a:xfrm>
            <a:off x="468360" y="922320"/>
            <a:ext cx="4464000" cy="47304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65539" descr=""/>
          <p:cNvPicPr/>
          <p:nvPr/>
        </p:nvPicPr>
        <p:blipFill>
          <a:blip r:embed="rId3"/>
          <a:stretch/>
        </p:blipFill>
        <p:spPr>
          <a:xfrm>
            <a:off x="6972480" y="936720"/>
            <a:ext cx="1847520" cy="225720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" descr=""/>
          <p:cNvPicPr/>
          <p:nvPr/>
        </p:nvPicPr>
        <p:blipFill>
          <a:blip r:embed="rId4"/>
          <a:stretch/>
        </p:blipFill>
        <p:spPr>
          <a:xfrm>
            <a:off x="4946760" y="938160"/>
            <a:ext cx="2001600" cy="47304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" descr=""/>
          <p:cNvPicPr/>
          <p:nvPr/>
        </p:nvPicPr>
        <p:blipFill>
          <a:blip r:embed="rId5"/>
          <a:stretch/>
        </p:blipFill>
        <p:spPr>
          <a:xfrm>
            <a:off x="611280" y="1498680"/>
            <a:ext cx="4968720" cy="47304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" descr=""/>
          <p:cNvPicPr/>
          <p:nvPr/>
        </p:nvPicPr>
        <p:blipFill>
          <a:blip r:embed="rId6"/>
          <a:stretch/>
        </p:blipFill>
        <p:spPr>
          <a:xfrm>
            <a:off x="5651640" y="1484280"/>
            <a:ext cx="1296720" cy="4730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" descr=""/>
          <p:cNvPicPr/>
          <p:nvPr/>
        </p:nvPicPr>
        <p:blipFill>
          <a:blip r:embed="rId7"/>
          <a:stretch/>
        </p:blipFill>
        <p:spPr>
          <a:xfrm>
            <a:off x="395280" y="2147760"/>
            <a:ext cx="3168720" cy="77652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" descr=""/>
          <p:cNvPicPr/>
          <p:nvPr/>
        </p:nvPicPr>
        <p:blipFill>
          <a:blip r:embed="rId8"/>
          <a:stretch/>
        </p:blipFill>
        <p:spPr>
          <a:xfrm>
            <a:off x="3635280" y="2276640"/>
            <a:ext cx="3313080" cy="47304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" descr=""/>
          <p:cNvPicPr/>
          <p:nvPr/>
        </p:nvPicPr>
        <p:blipFill>
          <a:blip r:embed="rId9"/>
          <a:stretch/>
        </p:blipFill>
        <p:spPr>
          <a:xfrm>
            <a:off x="611280" y="3025800"/>
            <a:ext cx="6337080" cy="47304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" descr=""/>
          <p:cNvPicPr/>
          <p:nvPr/>
        </p:nvPicPr>
        <p:blipFill>
          <a:blip r:embed="rId10"/>
          <a:stretch/>
        </p:blipFill>
        <p:spPr>
          <a:xfrm>
            <a:off x="250920" y="3645000"/>
            <a:ext cx="1152360" cy="47304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" descr=""/>
          <p:cNvPicPr/>
          <p:nvPr/>
        </p:nvPicPr>
        <p:blipFill>
          <a:blip r:embed="rId11"/>
          <a:stretch/>
        </p:blipFill>
        <p:spPr>
          <a:xfrm>
            <a:off x="1476360" y="3645000"/>
            <a:ext cx="4824360" cy="47304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" descr=""/>
          <p:cNvPicPr/>
          <p:nvPr/>
        </p:nvPicPr>
        <p:blipFill>
          <a:blip r:embed="rId12"/>
          <a:stretch/>
        </p:blipFill>
        <p:spPr>
          <a:xfrm>
            <a:off x="6300720" y="3687840"/>
            <a:ext cx="1297080" cy="47304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1" descr=""/>
          <p:cNvPicPr/>
          <p:nvPr/>
        </p:nvPicPr>
        <p:blipFill>
          <a:blip r:embed="rId13"/>
          <a:stretch/>
        </p:blipFill>
        <p:spPr>
          <a:xfrm>
            <a:off x="250920" y="4221000"/>
            <a:ext cx="4176720" cy="4734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1" descr=""/>
          <p:cNvPicPr/>
          <p:nvPr/>
        </p:nvPicPr>
        <p:blipFill>
          <a:blip r:embed="rId14"/>
          <a:stretch/>
        </p:blipFill>
        <p:spPr>
          <a:xfrm>
            <a:off x="539640" y="4797360"/>
            <a:ext cx="8209080" cy="47304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1" descr=""/>
          <p:cNvPicPr/>
          <p:nvPr/>
        </p:nvPicPr>
        <p:blipFill>
          <a:blip r:embed="rId15"/>
          <a:stretch/>
        </p:blipFill>
        <p:spPr>
          <a:xfrm>
            <a:off x="324000" y="5445000"/>
            <a:ext cx="8208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3" name="组合 64515"/>
          <p:cNvGrpSpPr/>
          <p:nvPr/>
        </p:nvGrpSpPr>
        <p:grpSpPr>
          <a:xfrm>
            <a:off x="281160" y="692280"/>
            <a:ext cx="8611920" cy="4968720"/>
            <a:chOff x="281160" y="692280"/>
            <a:chExt cx="8611920" cy="4968720"/>
          </a:xfrm>
        </p:grpSpPr>
        <p:pic>
          <p:nvPicPr>
            <p:cNvPr id="1484" name="图片 64513" descr=""/>
            <p:cNvPicPr/>
            <p:nvPr/>
          </p:nvPicPr>
          <p:blipFill>
            <a:blip r:embed="rId1"/>
            <a:stretch/>
          </p:blipFill>
          <p:spPr>
            <a:xfrm>
              <a:off x="281160" y="692280"/>
              <a:ext cx="858168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图片 64514" descr=""/>
            <p:cNvPicPr/>
            <p:nvPr/>
          </p:nvPicPr>
          <p:blipFill>
            <a:blip r:embed="rId2"/>
            <a:stretch/>
          </p:blipFill>
          <p:spPr>
            <a:xfrm>
              <a:off x="606600" y="2612880"/>
              <a:ext cx="8286480" cy="304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6" name="Picture 1" descr=""/>
          <p:cNvPicPr/>
          <p:nvPr/>
        </p:nvPicPr>
        <p:blipFill>
          <a:blip r:embed="rId3"/>
          <a:stretch/>
        </p:blipFill>
        <p:spPr>
          <a:xfrm>
            <a:off x="684360" y="3673440"/>
            <a:ext cx="4032000" cy="473040"/>
          </a:xfrm>
          <a:prstGeom prst="rect">
            <a:avLst/>
          </a:prstGeom>
          <a:ln w="0">
            <a:noFill/>
          </a:ln>
        </p:spPr>
      </p:pic>
      <p:pic>
        <p:nvPicPr>
          <p:cNvPr id="1487" name="图片 64517" descr=""/>
          <p:cNvPicPr/>
          <p:nvPr/>
        </p:nvPicPr>
        <p:blipFill>
          <a:blip r:embed="rId4"/>
          <a:stretch/>
        </p:blipFill>
        <p:spPr>
          <a:xfrm>
            <a:off x="6053040" y="2678040"/>
            <a:ext cx="2686320" cy="1790640"/>
          </a:xfrm>
          <a:prstGeom prst="rect">
            <a:avLst/>
          </a:prstGeom>
          <a:ln w="0">
            <a:noFill/>
          </a:ln>
        </p:spPr>
      </p:pic>
      <p:pic>
        <p:nvPicPr>
          <p:cNvPr id="1488" name="Picture 1" descr=""/>
          <p:cNvPicPr/>
          <p:nvPr/>
        </p:nvPicPr>
        <p:blipFill>
          <a:blip r:embed="rId5"/>
          <a:stretch/>
        </p:blipFill>
        <p:spPr>
          <a:xfrm>
            <a:off x="684360" y="4249800"/>
            <a:ext cx="4032000" cy="47304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1" descr=""/>
          <p:cNvPicPr/>
          <p:nvPr/>
        </p:nvPicPr>
        <p:blipFill>
          <a:blip r:embed="rId6"/>
          <a:stretch/>
        </p:blipFill>
        <p:spPr>
          <a:xfrm>
            <a:off x="684360" y="4869000"/>
            <a:ext cx="5472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63490" descr=""/>
          <p:cNvPicPr/>
          <p:nvPr/>
        </p:nvPicPr>
        <p:blipFill>
          <a:blip r:embed="rId1"/>
          <a:stretch/>
        </p:blipFill>
        <p:spPr>
          <a:xfrm>
            <a:off x="1262160" y="2390760"/>
            <a:ext cx="6619680" cy="2076480"/>
          </a:xfrm>
          <a:prstGeom prst="rect">
            <a:avLst/>
          </a:prstGeom>
          <a:ln w="0">
            <a:noFill/>
          </a:ln>
        </p:spPr>
      </p:pic>
      <p:pic>
        <p:nvPicPr>
          <p:cNvPr id="1491" name="Picture 1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6696000" cy="47304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1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6696360" cy="79200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" descr=""/>
          <p:cNvPicPr/>
          <p:nvPr/>
        </p:nvPicPr>
        <p:blipFill>
          <a:blip r:embed="rId4"/>
          <a:stretch/>
        </p:blipFill>
        <p:spPr>
          <a:xfrm>
            <a:off x="1187280" y="3948120"/>
            <a:ext cx="6696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片 62465" descr=""/>
          <p:cNvPicPr/>
          <p:nvPr/>
        </p:nvPicPr>
        <p:blipFill>
          <a:blip r:embed="rId1"/>
          <a:stretch/>
        </p:blipFill>
        <p:spPr>
          <a:xfrm>
            <a:off x="1171440" y="981000"/>
            <a:ext cx="6801120" cy="489600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1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480360" cy="47304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1" descr=""/>
          <p:cNvPicPr/>
          <p:nvPr/>
        </p:nvPicPr>
        <p:blipFill>
          <a:blip r:embed="rId3"/>
          <a:stretch/>
        </p:blipFill>
        <p:spPr>
          <a:xfrm>
            <a:off x="1403280" y="1512720"/>
            <a:ext cx="6480360" cy="47340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1" descr=""/>
          <p:cNvPicPr/>
          <p:nvPr/>
        </p:nvPicPr>
        <p:blipFill>
          <a:blip r:embed="rId4"/>
          <a:stretch/>
        </p:blipFill>
        <p:spPr>
          <a:xfrm>
            <a:off x="1332000" y="2031840"/>
            <a:ext cx="6480000" cy="47340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1" descr=""/>
          <p:cNvPicPr/>
          <p:nvPr/>
        </p:nvPicPr>
        <p:blipFill>
          <a:blip r:embed="rId5"/>
          <a:stretch/>
        </p:blipFill>
        <p:spPr>
          <a:xfrm>
            <a:off x="1258920" y="2637000"/>
            <a:ext cx="6480000" cy="47304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1" descr=""/>
          <p:cNvPicPr/>
          <p:nvPr/>
        </p:nvPicPr>
        <p:blipFill>
          <a:blip r:embed="rId6"/>
          <a:stretch/>
        </p:blipFill>
        <p:spPr>
          <a:xfrm>
            <a:off x="1187280" y="3184560"/>
            <a:ext cx="6480360" cy="161280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1" descr=""/>
          <p:cNvPicPr/>
          <p:nvPr/>
        </p:nvPicPr>
        <p:blipFill>
          <a:blip r:embed="rId7"/>
          <a:stretch/>
        </p:blipFill>
        <p:spPr>
          <a:xfrm>
            <a:off x="1258920" y="4809960"/>
            <a:ext cx="6480000" cy="47340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1" descr=""/>
          <p:cNvPicPr/>
          <p:nvPr/>
        </p:nvPicPr>
        <p:blipFill>
          <a:blip r:embed="rId8"/>
          <a:stretch/>
        </p:blipFill>
        <p:spPr>
          <a:xfrm>
            <a:off x="1116000" y="5373720"/>
            <a:ext cx="6480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61441" descr=""/>
          <p:cNvPicPr/>
          <p:nvPr/>
        </p:nvPicPr>
        <p:blipFill>
          <a:blip r:embed="rId1"/>
          <a:stretch/>
        </p:blipFill>
        <p:spPr>
          <a:xfrm>
            <a:off x="204840" y="763560"/>
            <a:ext cx="8734320" cy="590544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1" descr=""/>
          <p:cNvPicPr/>
          <p:nvPr/>
        </p:nvPicPr>
        <p:blipFill>
          <a:blip r:embed="rId2"/>
          <a:stretch/>
        </p:blipFill>
        <p:spPr>
          <a:xfrm>
            <a:off x="755640" y="3443400"/>
            <a:ext cx="5256360" cy="473040"/>
          </a:xfrm>
          <a:prstGeom prst="rect">
            <a:avLst/>
          </a:prstGeom>
          <a:ln w="0">
            <a:noFill/>
          </a:ln>
        </p:spPr>
      </p:pic>
      <p:pic>
        <p:nvPicPr>
          <p:cNvPr id="1504" name="图片 61443" descr=""/>
          <p:cNvPicPr/>
          <p:nvPr/>
        </p:nvPicPr>
        <p:blipFill>
          <a:blip r:embed="rId3"/>
          <a:stretch/>
        </p:blipFill>
        <p:spPr>
          <a:xfrm>
            <a:off x="6370560" y="3484440"/>
            <a:ext cx="2476440" cy="212436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" descr=""/>
          <p:cNvPicPr/>
          <p:nvPr/>
        </p:nvPicPr>
        <p:blipFill>
          <a:blip r:embed="rId4"/>
          <a:stretch/>
        </p:blipFill>
        <p:spPr>
          <a:xfrm>
            <a:off x="684360" y="4033800"/>
            <a:ext cx="4824360" cy="47304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" descr=""/>
          <p:cNvPicPr/>
          <p:nvPr/>
        </p:nvPicPr>
        <p:blipFill>
          <a:blip r:embed="rId5"/>
          <a:stretch/>
        </p:blipFill>
        <p:spPr>
          <a:xfrm>
            <a:off x="5651640" y="400536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" descr=""/>
          <p:cNvPicPr/>
          <p:nvPr/>
        </p:nvPicPr>
        <p:blipFill>
          <a:blip r:embed="rId6"/>
          <a:stretch/>
        </p:blipFill>
        <p:spPr>
          <a:xfrm>
            <a:off x="826920" y="4581360"/>
            <a:ext cx="2232360" cy="47340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" descr=""/>
          <p:cNvPicPr/>
          <p:nvPr/>
        </p:nvPicPr>
        <p:blipFill>
          <a:blip r:embed="rId7"/>
          <a:stretch/>
        </p:blipFill>
        <p:spPr>
          <a:xfrm>
            <a:off x="3117960" y="4567320"/>
            <a:ext cx="2894040" cy="47304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" descr=""/>
          <p:cNvPicPr/>
          <p:nvPr/>
        </p:nvPicPr>
        <p:blipFill>
          <a:blip r:embed="rId8"/>
          <a:stretch/>
        </p:blipFill>
        <p:spPr>
          <a:xfrm>
            <a:off x="655560" y="5157720"/>
            <a:ext cx="1366920" cy="47304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" descr=""/>
          <p:cNvPicPr/>
          <p:nvPr/>
        </p:nvPicPr>
        <p:blipFill>
          <a:blip r:embed="rId9"/>
          <a:stretch/>
        </p:blipFill>
        <p:spPr>
          <a:xfrm>
            <a:off x="2050920" y="5129280"/>
            <a:ext cx="2376720" cy="47304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" descr=""/>
          <p:cNvPicPr/>
          <p:nvPr/>
        </p:nvPicPr>
        <p:blipFill>
          <a:blip r:embed="rId10"/>
          <a:stretch/>
        </p:blipFill>
        <p:spPr>
          <a:xfrm>
            <a:off x="4500720" y="5129280"/>
            <a:ext cx="1655640" cy="47304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11"/>
          <a:stretch/>
        </p:blipFill>
        <p:spPr>
          <a:xfrm>
            <a:off x="684360" y="5675400"/>
            <a:ext cx="1366560" cy="47304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1" descr=""/>
          <p:cNvPicPr/>
          <p:nvPr/>
        </p:nvPicPr>
        <p:blipFill>
          <a:blip r:embed="rId12"/>
          <a:stretch/>
        </p:blipFill>
        <p:spPr>
          <a:xfrm>
            <a:off x="2050920" y="5661000"/>
            <a:ext cx="2665440" cy="47304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1" descr=""/>
          <p:cNvPicPr/>
          <p:nvPr/>
        </p:nvPicPr>
        <p:blipFill>
          <a:blip r:embed="rId13"/>
          <a:stretch/>
        </p:blipFill>
        <p:spPr>
          <a:xfrm>
            <a:off x="4716360" y="5676840"/>
            <a:ext cx="1656000" cy="47304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1" descr=""/>
          <p:cNvPicPr/>
          <p:nvPr/>
        </p:nvPicPr>
        <p:blipFill>
          <a:blip r:embed="rId14"/>
          <a:stretch/>
        </p:blipFill>
        <p:spPr>
          <a:xfrm>
            <a:off x="554040" y="6222960"/>
            <a:ext cx="1366920" cy="47304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1" descr=""/>
          <p:cNvPicPr/>
          <p:nvPr/>
        </p:nvPicPr>
        <p:blipFill>
          <a:blip r:embed="rId15"/>
          <a:stretch/>
        </p:blipFill>
        <p:spPr>
          <a:xfrm>
            <a:off x="1979640" y="6194520"/>
            <a:ext cx="2592360" cy="47304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1" descr=""/>
          <p:cNvPicPr/>
          <p:nvPr/>
        </p:nvPicPr>
        <p:blipFill>
          <a:blip r:embed="rId16"/>
          <a:stretch/>
        </p:blipFill>
        <p:spPr>
          <a:xfrm>
            <a:off x="4586400" y="6222960"/>
            <a:ext cx="43066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图片 70657" descr=""/>
          <p:cNvPicPr/>
          <p:nvPr/>
        </p:nvPicPr>
        <p:blipFill>
          <a:blip r:embed="rId1"/>
          <a:stretch/>
        </p:blipFill>
        <p:spPr>
          <a:xfrm>
            <a:off x="376200" y="851040"/>
            <a:ext cx="8391600" cy="545760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2087280" cy="47304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" descr=""/>
          <p:cNvPicPr/>
          <p:nvPr/>
        </p:nvPicPr>
        <p:blipFill>
          <a:blip r:embed="rId3"/>
          <a:stretch/>
        </p:blipFill>
        <p:spPr>
          <a:xfrm>
            <a:off x="2771640" y="836640"/>
            <a:ext cx="3529080" cy="47304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1" descr=""/>
          <p:cNvPicPr/>
          <p:nvPr/>
        </p:nvPicPr>
        <p:blipFill>
          <a:blip r:embed="rId4"/>
          <a:stretch/>
        </p:blipFill>
        <p:spPr>
          <a:xfrm>
            <a:off x="6372360" y="836640"/>
            <a:ext cx="1944720" cy="47304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1" descr=""/>
          <p:cNvPicPr/>
          <p:nvPr/>
        </p:nvPicPr>
        <p:blipFill>
          <a:blip r:embed="rId5"/>
          <a:stretch/>
        </p:blipFill>
        <p:spPr>
          <a:xfrm>
            <a:off x="8388360" y="80820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1" descr=""/>
          <p:cNvPicPr/>
          <p:nvPr/>
        </p:nvPicPr>
        <p:blipFill>
          <a:blip r:embed="rId6"/>
          <a:stretch/>
        </p:blipFill>
        <p:spPr>
          <a:xfrm>
            <a:off x="684360" y="1384200"/>
            <a:ext cx="1655640" cy="47304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" descr=""/>
          <p:cNvPicPr/>
          <p:nvPr/>
        </p:nvPicPr>
        <p:blipFill>
          <a:blip r:embed="rId7"/>
          <a:stretch/>
        </p:blipFill>
        <p:spPr>
          <a:xfrm>
            <a:off x="2340000" y="1355760"/>
            <a:ext cx="4176720" cy="4730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1" descr=""/>
          <p:cNvPicPr/>
          <p:nvPr/>
        </p:nvPicPr>
        <p:blipFill>
          <a:blip r:embed="rId8"/>
          <a:stretch/>
        </p:blipFill>
        <p:spPr>
          <a:xfrm>
            <a:off x="539640" y="1989000"/>
            <a:ext cx="4176720" cy="151128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1" descr=""/>
          <p:cNvPicPr/>
          <p:nvPr/>
        </p:nvPicPr>
        <p:blipFill>
          <a:blip r:embed="rId9"/>
          <a:stretch/>
        </p:blipFill>
        <p:spPr>
          <a:xfrm>
            <a:off x="611280" y="3559320"/>
            <a:ext cx="6697440" cy="4730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" descr=""/>
          <p:cNvPicPr/>
          <p:nvPr/>
        </p:nvPicPr>
        <p:blipFill>
          <a:blip r:embed="rId10"/>
          <a:stretch/>
        </p:blipFill>
        <p:spPr>
          <a:xfrm>
            <a:off x="755640" y="4149720"/>
            <a:ext cx="6697800" cy="47304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"/>
          <p:cNvPicPr/>
          <p:nvPr/>
        </p:nvPicPr>
        <p:blipFill>
          <a:blip r:embed="rId11"/>
          <a:stretch/>
        </p:blipFill>
        <p:spPr>
          <a:xfrm>
            <a:off x="684360" y="4667400"/>
            <a:ext cx="6697440" cy="47304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1" descr=""/>
          <p:cNvPicPr/>
          <p:nvPr/>
        </p:nvPicPr>
        <p:blipFill>
          <a:blip r:embed="rId12"/>
          <a:stretch/>
        </p:blipFill>
        <p:spPr>
          <a:xfrm>
            <a:off x="611280" y="5229360"/>
            <a:ext cx="6697440" cy="47304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1" descr=""/>
          <p:cNvPicPr/>
          <p:nvPr/>
        </p:nvPicPr>
        <p:blipFill>
          <a:blip r:embed="rId13"/>
          <a:stretch/>
        </p:blipFill>
        <p:spPr>
          <a:xfrm>
            <a:off x="611280" y="5848200"/>
            <a:ext cx="669744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60428" descr=""/>
          <p:cNvPicPr/>
          <p:nvPr/>
        </p:nvPicPr>
        <p:blipFill>
          <a:blip r:embed="rId1"/>
          <a:stretch/>
        </p:blipFill>
        <p:spPr>
          <a:xfrm>
            <a:off x="237960" y="857160"/>
            <a:ext cx="8668080" cy="514368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" descr=""/>
          <p:cNvPicPr/>
          <p:nvPr/>
        </p:nvPicPr>
        <p:blipFill>
          <a:blip r:embed="rId2"/>
          <a:stretch/>
        </p:blipFill>
        <p:spPr>
          <a:xfrm>
            <a:off x="8028000" y="32130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图片 71681" descr=""/>
          <p:cNvPicPr/>
          <p:nvPr/>
        </p:nvPicPr>
        <p:blipFill>
          <a:blip r:embed="rId1"/>
          <a:stretch/>
        </p:blipFill>
        <p:spPr>
          <a:xfrm>
            <a:off x="457200" y="2190600"/>
            <a:ext cx="8229600" cy="247680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1" descr=""/>
          <p:cNvPicPr/>
          <p:nvPr/>
        </p:nvPicPr>
        <p:blipFill>
          <a:blip r:embed="rId2"/>
          <a:stretch/>
        </p:blipFill>
        <p:spPr>
          <a:xfrm>
            <a:off x="482760" y="2205000"/>
            <a:ext cx="5040000" cy="473040"/>
          </a:xfrm>
          <a:prstGeom prst="rect">
            <a:avLst/>
          </a:prstGeom>
          <a:ln w="0">
            <a:noFill/>
          </a:ln>
        </p:spPr>
      </p:pic>
      <p:pic>
        <p:nvPicPr>
          <p:cNvPr id="1533" name="Picture 1" descr=""/>
          <p:cNvPicPr/>
          <p:nvPr/>
        </p:nvPicPr>
        <p:blipFill>
          <a:blip r:embed="rId3"/>
          <a:stretch/>
        </p:blipFill>
        <p:spPr>
          <a:xfrm>
            <a:off x="5580000" y="2205000"/>
            <a:ext cx="3168720" cy="47304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1" descr=""/>
          <p:cNvPicPr/>
          <p:nvPr/>
        </p:nvPicPr>
        <p:blipFill>
          <a:blip r:embed="rId4"/>
          <a:stretch/>
        </p:blipFill>
        <p:spPr>
          <a:xfrm>
            <a:off x="468360" y="2736720"/>
            <a:ext cx="7775640" cy="47304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1" descr=""/>
          <p:cNvPicPr/>
          <p:nvPr/>
        </p:nvPicPr>
        <p:blipFill>
          <a:blip r:embed="rId5"/>
          <a:stretch/>
        </p:blipFill>
        <p:spPr>
          <a:xfrm>
            <a:off x="8244000" y="270828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1" descr=""/>
          <p:cNvPicPr/>
          <p:nvPr/>
        </p:nvPicPr>
        <p:blipFill>
          <a:blip r:embed="rId6"/>
          <a:stretch/>
        </p:blipFill>
        <p:spPr>
          <a:xfrm>
            <a:off x="539640" y="3298680"/>
            <a:ext cx="3311640" cy="47340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1" descr=""/>
          <p:cNvPicPr/>
          <p:nvPr/>
        </p:nvPicPr>
        <p:blipFill>
          <a:blip r:embed="rId7"/>
          <a:stretch/>
        </p:blipFill>
        <p:spPr>
          <a:xfrm>
            <a:off x="3924360" y="3298680"/>
            <a:ext cx="2087640" cy="47340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1" descr=""/>
          <p:cNvPicPr/>
          <p:nvPr/>
        </p:nvPicPr>
        <p:blipFill>
          <a:blip r:embed="rId8"/>
          <a:stretch/>
        </p:blipFill>
        <p:spPr>
          <a:xfrm>
            <a:off x="6084720" y="3284640"/>
            <a:ext cx="2087640" cy="47304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1" descr=""/>
          <p:cNvPicPr/>
          <p:nvPr/>
        </p:nvPicPr>
        <p:blipFill>
          <a:blip r:embed="rId9"/>
          <a:stretch/>
        </p:blipFill>
        <p:spPr>
          <a:xfrm>
            <a:off x="8244000" y="3298680"/>
            <a:ext cx="504720" cy="47340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1" descr=""/>
          <p:cNvPicPr/>
          <p:nvPr/>
        </p:nvPicPr>
        <p:blipFill>
          <a:blip r:embed="rId10"/>
          <a:stretch/>
        </p:blipFill>
        <p:spPr>
          <a:xfrm>
            <a:off x="468360" y="3905280"/>
            <a:ext cx="49672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59410" descr=""/>
          <p:cNvPicPr/>
          <p:nvPr/>
        </p:nvPicPr>
        <p:blipFill>
          <a:blip r:embed="rId1"/>
          <a:stretch/>
        </p:blipFill>
        <p:spPr>
          <a:xfrm>
            <a:off x="162000" y="1566720"/>
            <a:ext cx="8820000" cy="372456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1" descr=""/>
          <p:cNvPicPr/>
          <p:nvPr/>
        </p:nvPicPr>
        <p:blipFill>
          <a:blip r:embed="rId2"/>
          <a:stretch/>
        </p:blipFill>
        <p:spPr>
          <a:xfrm>
            <a:off x="8028000" y="22050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58373" descr=""/>
          <p:cNvPicPr/>
          <p:nvPr/>
        </p:nvPicPr>
        <p:blipFill>
          <a:blip r:embed="rId1"/>
          <a:stretch/>
        </p:blipFill>
        <p:spPr>
          <a:xfrm>
            <a:off x="176040" y="814320"/>
            <a:ext cx="8791920" cy="522936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1" descr=""/>
          <p:cNvPicPr/>
          <p:nvPr/>
        </p:nvPicPr>
        <p:blipFill>
          <a:blip r:embed="rId2"/>
          <a:stretch/>
        </p:blipFill>
        <p:spPr>
          <a:xfrm>
            <a:off x="3564000" y="3112920"/>
            <a:ext cx="504720" cy="47340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1" descr=""/>
          <p:cNvPicPr/>
          <p:nvPr/>
        </p:nvPicPr>
        <p:blipFill>
          <a:blip r:embed="rId3"/>
          <a:stretch/>
        </p:blipFill>
        <p:spPr>
          <a:xfrm>
            <a:off x="8028000" y="44370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57352" descr=""/>
          <p:cNvPicPr/>
          <p:nvPr/>
        </p:nvPicPr>
        <p:blipFill>
          <a:blip r:embed="rId1"/>
          <a:stretch/>
        </p:blipFill>
        <p:spPr>
          <a:xfrm>
            <a:off x="219240" y="876240"/>
            <a:ext cx="8705520" cy="51055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" descr=""/>
          <p:cNvPicPr/>
          <p:nvPr/>
        </p:nvPicPr>
        <p:blipFill>
          <a:blip r:embed="rId2"/>
          <a:stretch/>
        </p:blipFill>
        <p:spPr>
          <a:xfrm>
            <a:off x="8028000" y="14130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56324" descr=""/>
          <p:cNvPicPr/>
          <p:nvPr/>
        </p:nvPicPr>
        <p:blipFill>
          <a:blip r:embed="rId1"/>
          <a:stretch/>
        </p:blipFill>
        <p:spPr>
          <a:xfrm>
            <a:off x="638280" y="809640"/>
            <a:ext cx="7867440" cy="523872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1" descr=""/>
          <p:cNvPicPr/>
          <p:nvPr/>
        </p:nvPicPr>
        <p:blipFill>
          <a:blip r:embed="rId2"/>
          <a:stretch/>
        </p:blipFill>
        <p:spPr>
          <a:xfrm>
            <a:off x="971640" y="5013360"/>
            <a:ext cx="7488000" cy="473040"/>
          </a:xfrm>
          <a:prstGeom prst="rect">
            <a:avLst/>
          </a:prstGeom>
          <a:ln w="0">
            <a:noFill/>
          </a:ln>
        </p:spPr>
      </p:pic>
      <p:pic>
        <p:nvPicPr>
          <p:cNvPr id="1444" name="图片 56326" descr=""/>
          <p:cNvPicPr/>
          <p:nvPr/>
        </p:nvPicPr>
        <p:blipFill>
          <a:blip r:embed="rId3"/>
          <a:stretch/>
        </p:blipFill>
        <p:spPr>
          <a:xfrm>
            <a:off x="2989440" y="785880"/>
            <a:ext cx="4000320" cy="3476520"/>
          </a:xfrm>
          <a:prstGeom prst="rect">
            <a:avLst/>
          </a:prstGeom>
          <a:ln w="0">
            <a:noFill/>
          </a:ln>
        </p:spPr>
      </p:pic>
      <p:pic>
        <p:nvPicPr>
          <p:cNvPr id="1445" name="Picture 1" descr=""/>
          <p:cNvPicPr/>
          <p:nvPr/>
        </p:nvPicPr>
        <p:blipFill>
          <a:blip r:embed="rId4"/>
          <a:stretch/>
        </p:blipFill>
        <p:spPr>
          <a:xfrm>
            <a:off x="1116000" y="5516640"/>
            <a:ext cx="7488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55300" descr=""/>
          <p:cNvPicPr/>
          <p:nvPr/>
        </p:nvPicPr>
        <p:blipFill>
          <a:blip r:embed="rId1"/>
          <a:stretch/>
        </p:blipFill>
        <p:spPr>
          <a:xfrm>
            <a:off x="243000" y="1652760"/>
            <a:ext cx="8658000" cy="355248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1" descr=""/>
          <p:cNvPicPr/>
          <p:nvPr/>
        </p:nvPicPr>
        <p:blipFill>
          <a:blip r:embed="rId2"/>
          <a:stretch/>
        </p:blipFill>
        <p:spPr>
          <a:xfrm>
            <a:off x="8028000" y="28242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组合 54278"/>
          <p:cNvGrpSpPr/>
          <p:nvPr/>
        </p:nvGrpSpPr>
        <p:grpSpPr>
          <a:xfrm>
            <a:off x="243000" y="768240"/>
            <a:ext cx="8658000" cy="5900760"/>
            <a:chOff x="243000" y="768240"/>
            <a:chExt cx="8658000" cy="5900760"/>
          </a:xfrm>
        </p:grpSpPr>
        <p:pic>
          <p:nvPicPr>
            <p:cNvPr id="1449" name="图片 54276" descr=""/>
            <p:cNvPicPr/>
            <p:nvPr/>
          </p:nvPicPr>
          <p:blipFill>
            <a:blip r:embed="rId1"/>
            <a:stretch/>
          </p:blipFill>
          <p:spPr>
            <a:xfrm>
              <a:off x="243000" y="768240"/>
              <a:ext cx="8658000" cy="58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图片 54277" descr=""/>
            <p:cNvPicPr/>
            <p:nvPr/>
          </p:nvPicPr>
          <p:blipFill>
            <a:blip r:embed="rId2"/>
            <a:stretch/>
          </p:blipFill>
          <p:spPr>
            <a:xfrm>
              <a:off x="5076720" y="4149720"/>
              <a:ext cx="3024360" cy="25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1" name="Picture 1" descr=""/>
          <p:cNvPicPr/>
          <p:nvPr/>
        </p:nvPicPr>
        <p:blipFill>
          <a:blip r:embed="rId3"/>
          <a:stretch/>
        </p:blipFill>
        <p:spPr>
          <a:xfrm>
            <a:off x="8099280" y="2708280"/>
            <a:ext cx="505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组合 52233"/>
          <p:cNvGrpSpPr/>
          <p:nvPr/>
        </p:nvGrpSpPr>
        <p:grpSpPr>
          <a:xfrm>
            <a:off x="195120" y="907920"/>
            <a:ext cx="8753760" cy="4978440"/>
            <a:chOff x="195120" y="907920"/>
            <a:chExt cx="8753760" cy="4978440"/>
          </a:xfrm>
        </p:grpSpPr>
        <p:pic>
          <p:nvPicPr>
            <p:cNvPr id="1453" name="图片 52231" descr=""/>
            <p:cNvPicPr/>
            <p:nvPr/>
          </p:nvPicPr>
          <p:blipFill>
            <a:blip r:embed="rId1"/>
            <a:stretch/>
          </p:blipFill>
          <p:spPr>
            <a:xfrm>
              <a:off x="195120" y="971640"/>
              <a:ext cx="8753760" cy="49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图片 52232" descr=""/>
            <p:cNvPicPr/>
            <p:nvPr/>
          </p:nvPicPr>
          <p:blipFill>
            <a:blip r:embed="rId2"/>
            <a:stretch/>
          </p:blipFill>
          <p:spPr>
            <a:xfrm>
              <a:off x="1116000" y="907920"/>
              <a:ext cx="3456000" cy="28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5" name="Picture 1" descr=""/>
          <p:cNvPicPr/>
          <p:nvPr/>
        </p:nvPicPr>
        <p:blipFill>
          <a:blip r:embed="rId3"/>
          <a:stretch/>
        </p:blipFill>
        <p:spPr>
          <a:xfrm>
            <a:off x="8101080" y="486900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29:5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